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9E3-D345-41F6-AC5A-702BD6AF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C13-2BF5-4405-B2F5-45F24B2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CF0-DB30-46B1-BBDF-A9A9B0CF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282-F172-4F17-9EFB-46F5EA8F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A3A-F9FB-448F-890A-1AB4567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5B7-EF6D-4C22-BADE-8ADB0F2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FA8-EE4B-41EE-95F8-F1F4C4D8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267-F267-4C18-9375-8E9C1D3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9F1-96A0-4010-96CE-44682B25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9B1-8458-4171-B031-ADF6D59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927-55CB-4635-9495-3B0A3F7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33A-BBA0-4A8C-81D5-1776D3B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EBF-DD1D-4E0E-A7A0-436FD518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0"/>
            <a:ext cx="6029280" cy="72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leons'  chocolate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squares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2:51:46Z</dcterms:created>
  <dc:creator>Student</dc:creator>
  <dc:description/>
  <dc:language>en-US</dc:language>
  <cp:lastModifiedBy>Student</cp:lastModifiedBy>
  <dcterms:modified xsi:type="dcterms:W3CDTF">2008-09-18T01:38:57Z</dcterms:modified>
  <cp:revision>5</cp:revision>
  <dc:subject/>
  <dc:title>Slide 1</dc:title>
</cp:coreProperties>
</file>